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241-8235-470C-85FB-5A14FE9E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D79-5DDA-4FD2-B2DD-7EFF2CC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FC2-6794-4D20-B4C6-9E0121E6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D48-D9A6-422A-93F2-1C309CA7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711B-C75E-4F93-BB46-D1BD33CA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7A4-8FD0-4DFB-93C6-E0CBF7B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3919-2665-4352-A7E4-C68548D7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715-670E-407A-97C5-772068E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0B87-4CE9-4763-8C3C-200A0F6C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9A8C-FBF6-4199-ACAD-A0E15354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5AA-1BDD-4737-970B-79C8958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E70-A263-4820-B231-081E746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015B-50D9-41B9-8625-AE92121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35A3-CA26-492A-B41E-51F3D9A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2EB-C355-47E3-9F36-F6258F08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78C-EAA7-4A81-B953-47E37D4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AB8-E325-43AF-B278-39771C26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FE1E-0EAF-466A-A2FB-0143C88B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63E5-54E5-439E-8C5B-47A95A03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039A-00A8-4560-B7E4-EA74BCE5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EA96-8013-412D-898F-4AD3F241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F297-AD59-4328-84B2-2E1A0CD2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3B8-A4AB-40FB-9669-16590AD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ADC8-C7B7-4C7D-8A22-62FFE09B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CC03-D812-409E-85E5-23DA09D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D155-9954-4934-B808-DD825C9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0AED-B9A6-4716-9620-5E0498F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E343-99B2-46DC-BF6C-1002FA21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D217-24F3-4286-8102-1C9306D6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742C-EA73-47F3-B7F8-D2FA4B1B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2CA6-C254-43C8-AB88-20EA8042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E11D-E65A-4841-B42C-A31A5FF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3A59-025B-415D-A8A6-6C085FDF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D4F-8083-407D-B6C7-F11CE94E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EFB8-4BD3-46EA-8E43-F564D35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FA4D-89B5-439D-910B-A11E7C90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7E58-0CEF-4760-A82F-447BE32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1E42-1D9A-45F0-942B-878BDAF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2AB3-886C-48EC-89FC-57FE1BB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2E7E-1F90-4729-AECA-A3EEC14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5D23-7F14-4957-977C-F4CD0E9B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787E-27FB-4500-B36C-F7135FC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62C5-7859-417D-B62F-56553BA4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04C-6B7B-44A7-8D3F-A7044AC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363-8929-488F-8D4C-DC89ED6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D24-6058-4801-B46E-CCE6DD0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2E0-D3C5-49AB-98B6-84DA2D8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E9D-7285-4014-A24D-A303D57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2DBD3-D19F-4510-B59D-9CF62174795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F428C-7D1E-4697-98C9-E2DF4F52F3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68835-A19F-4422-BFE1-714D9456CEE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22CCF-BF19-4C63-AB8D-E35ED4D513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2C3AF-00B2-4810-9184-76E0EC3B09B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54068-C2EB-4B97-9855-A8715CBF0A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04BC3-03FC-4627-B354-3F5E0E4CAB03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4ED68-5614-4B61-8744-20F0B071A1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psrenenvironmentalscience.wikispaces.com/" TargetMode="External"/><Relationship Id="rId3" Type="http://schemas.openxmlformats.org/officeDocument/2006/relationships/hyperlink" Target="http://dpsrenenvironmentalscience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melda Pol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naissance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 8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T-7240  was awesome! I learned so much about social media and its educational uses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ki sp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mo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idesh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g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I plan to use what I learned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’d like to share one way I’ll be using the information I learned in my environmental science clas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lcome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dpsrenenvironmentalscience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0:44Z</dcterms:created>
  <dc:creator>College of Education</dc:creator>
  <dc:description/>
  <dc:language>en-US</dc:language>
  <cp:lastModifiedBy>College of Education</cp:lastModifiedBy>
  <dcterms:modified xsi:type="dcterms:W3CDTF">2009-08-08T14:38:05Z</dcterms:modified>
  <cp:revision>1</cp:revision>
  <dc:subject/>
  <dc:title>My Summer Learning Experience in IT 7240</dc:title>
</cp:coreProperties>
</file>